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3DDC6-DE48-48F3-A3EF-DE0336A7E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61E33-DD09-4C62-9276-E02E72AAB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9D177-3A28-4988-940D-5454E980D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4350C-E8D1-4CE1-9215-94AF0EDD96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DBE1-A758-4AF0-9037-3F63A9D1CF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A73FB-27BC-4AAF-A2DC-4187DC7D2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CA432-FF55-4490-A04F-FD57C8C57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DE576-6DE4-403A-AED9-1F6F43626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B51BF-B00F-41BD-9EDE-14966ECFA6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4E880-FE05-4D82-8A17-9D32D8C6B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0A9EE-9D29-4439-B152-E1E7C7D3E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75F2-B8C0-4E97-8CFE-0CC717E94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E48B-B09C-4E81-BA8A-C71F4AE3DF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5E43-603D-48E4-87E6-0A78FB2AA6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amp Journ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09120" y="1599840"/>
            <a:ext cx="5257800" cy="3429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the challenges to providing feedback to students in the mo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4D8D-E326-4867-BFFC-F779CEF531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freetechjournal.com/blog/wp-content/uploads/2010/12/press-journal.gif"/>
          <p:cNvPicPr/>
          <p:nvPr/>
        </p:nvPicPr>
        <p:blipFill>
          <a:blip r:embed="rId1"/>
          <a:stretch/>
        </p:blipFill>
        <p:spPr>
          <a:xfrm>
            <a:off x="6019920" y="1600200"/>
            <a:ext cx="2514600" cy="30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 Proportional Mosaic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large the little square you were given onto the larger squ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e the larger square onto the corresponding number on the chart pa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9101-7101-4DA0-A17C-4DA4549778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9B36-A6F3-4CFE-8DB6-DF9222406D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Breakout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 want to explore the big ideas in Proportional Reaso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 want to explore how we can support students by providing feedback in the moment that supports their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184C-329A-48C4-9E79-3931B14659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 Proportional Tas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67EB-B324-4CAB-8DD0-9FCDA92A74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6858000" cy="41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 Frayer Model for Proportional Reas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plete the Frayer Model and share your responses with your table grou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10BE-4FD2-4B60-ACA5-7D5875FE17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Back to our task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e pair - Share your strategy for solving the problem with the rest of your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ther pair – Think of what feedback you can prov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witch ro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D217-4D85-44F3-B814-08A0374033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ooking at student work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types of responses do you anticip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B05F-DE7D-404F-94C4-03A5C8A1B5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ooking at student work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of the feedback you could provide the student. Write the feedback on a sticky note and paste on the student s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the feedback from Sample 1 on its chart paper, Sample 2 on its chart paper, and so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89BA-3536-45A8-A83C-A4243D32F2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oving forw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can we scaffold the problem for struggling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can we add a challenge for students who have solved  the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1845-B3CB-4DA1-8D1C-A489F6DB2B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Image Builder</cp:lastModifiedBy>
  <dcterms:modified xsi:type="dcterms:W3CDTF">2011-08-12T15:46:32Z</dcterms:modified>
  <cp:revision>11</cp:revision>
  <dc:subject/>
  <dc:title>&lt;Title&gt;</dc:title>
</cp:coreProperties>
</file>